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5E2D-F2C1-4575-97BA-58A6FE23E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7FBD-6256-4778-9950-F74EF8E07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28A9-18B9-4777-A993-3EFE34E3D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34D6-B065-44F3-A218-027A7E90E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852E-60E0-4067-9323-4C66BB27B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6294-9286-4A10-A4E0-BE1A17276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2D51-9477-4BCF-9D3D-03F5B690E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942A-C0B4-4F21-831C-416E7BA53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075A-74CE-4826-8194-A09D9AE64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269A-28D2-4B93-967B-B45D8B1B0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80D8-1BF0-4136-B97B-7D8616BE9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ADB7-B60C-4AE9-9F18-3DFC2692F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BB801-E787-4DFC-B538-0CA33C63B7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2505"/>
                </a:solidFill>
                <a:latin typeface="Arial"/>
              </a:rPr>
              <a:t>The Heimlich Maneu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828800" y="3352680"/>
            <a:ext cx="53341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2505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or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yden Cal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52505"/>
                </a:solidFill>
                <a:latin typeface="Arial"/>
              </a:rPr>
              <a:t>!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’s never a warning before a person gets an object caught in their throat and starts choking.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tunately, there are effective techniques to deal with this emergen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2505"/>
                </a:solidFill>
                <a:latin typeface="Arial"/>
              </a:rPr>
              <a:t>Cho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king is the body’s way of trying to remove a foreign object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uses of Cho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ting (especially eating and laughing at the same time, eating too fast, and failing to chew food well enough.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cohol and drug consumption (even a small amount affects awareness.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uma to the head and face (bleeding can cause choking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objects swallowed by children (beads, toy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2505"/>
                </a:solidFill>
                <a:latin typeface="Arial"/>
              </a:rPr>
              <a:t>Lack of Oxy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out oxygen the brain can begin to die within 4 to 6 minutes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learning the Heimlich Maneuver-a simple life-saving technique-you may literally save the life of a choking victim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imlich Maneuv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eimlich Maneuver is the most effective way to remove something stuck in an adult’s or older child’s throat. (Note: another technique is used for an infant, small child, or when someone becomes unconscious.)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lifts the diaphragm and forces enough air from the lungs to remove the obstruction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2505"/>
                </a:solidFill>
                <a:latin typeface="Arial"/>
              </a:rPr>
              <a:t>When Do I Use The Heimlic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erson is grabbing the throat with the hand (the universal sign for choking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notice they are gagg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hear a weak ineffective cough, noisy breathing, or high-pitched sound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erson is starting to look blu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2505"/>
                </a:solidFill>
                <a:latin typeface="Arial"/>
              </a:rPr>
              <a:t>How To Do The Heimli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 behind the choking person and wrap your arm around his or her wai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ce thumb side of the fist against middle of person’s abdomen just above the navel and well below the rib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s your fist into the person’s abdomen with quick, upward thrus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eat abdominal thrusts until the object is coughed u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2505"/>
                </a:solidFill>
                <a:latin typeface="Arial"/>
              </a:rPr>
              <a:t>Performing The Heimli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666880" y="1600200"/>
            <a:ext cx="41911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2505"/>
                </a:solidFill>
                <a:latin typeface="Arial"/>
              </a:rPr>
              <a:t>Always rememb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ing the expulsion of the object, keep the victim still and get medical help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ications can arise from the incident or from the measures that were tak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2505"/>
                </a:solidFill>
                <a:latin typeface="Arial"/>
              </a:rPr>
              <a:t>Important No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nformation is not intended to be a substitute for professional medical advic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icensed physician should be consulted for diagnosis and treatment of all medical condi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7T15:48:13Z</dcterms:created>
  <dc:creator>771009</dc:creator>
  <dc:description/>
  <dc:language>en-US</dc:language>
  <cp:lastModifiedBy>771009</cp:lastModifiedBy>
  <dcterms:modified xsi:type="dcterms:W3CDTF">2008-10-27T16:07:41Z</dcterms:modified>
  <cp:revision>4</cp:revision>
  <dc:subject/>
  <dc:title>The Heimlich Maneuver</dc:title>
</cp:coreProperties>
</file>